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636-9363-4F96-A91E-87B1720A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66A-BE07-4E8C-8ADC-0D4219FC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90F-6D91-4E9B-8DAF-724876C6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E01-5B4D-4601-B8FB-0F4D2241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9EA-50FA-494B-BB3B-6F4EC904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A7C-96FF-4585-BF6D-89D5C869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EEE-1DBF-441E-B615-12AA2ACC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F77-A4E7-4735-900C-25B2C08A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BC3-6C53-46D4-830B-C722E79B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DEB-E59F-4297-9C3C-E9ADC424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F9B-C672-4313-9497-022AC4BD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587-BC67-4A21-B4B2-37573E48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B8AE-98A1-4FD7-8067-2AA8F08D5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нципи правилне и правовремене хидрације у спорт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ецифичности хидрације у односу на пол, старосну доб спортисте и врсту спор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за прехидрат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6000" y="2565360"/>
            <a:ext cx="8712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 одржавања адекватне хидрираности организма започиње фазом прехидратације, мада је ова фаза најкасније уведена у спортски режи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а фаза подразумева да се у организам пре такмичења (или пре интензивног тренинга) унесе одређена количина в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за прехидрат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6000" y="1412640"/>
            <a:ext cx="8712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ђутим, неопходно је водити рачуна о количини попијене течности, јер попијена већа количина воде може изазвати непријатан осећај бућкања у желуцу, који може да омета спортис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о моменат узимања воде није добро испланиран, доћи ће до појачане филтрације путем бубрега и вода ће из интерстицијума, где је на располагању за одвијање интензивних метаболичких процеса, прећи у мокраћну бешику, где више није доступна за те проце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за  транзиторне хидрата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6000" y="1844640"/>
            <a:ext cx="871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ас се зна да се најбоља хидрираност постиже када се вода узима у току четири сата пре такмичења, у количинама од 5–7 ml на килограм телесне теж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љ је да се унета вода што спорије апсорбује, да би се обезбедило да апсорпција траје и за време такмичења. То се постиже на тај начин што се уноси вода ниже температуре (око 5 °C, практично из фрижидер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икавањем на овакав режим, нелагодност коју проузрокује унос оволике количине воде своди се на миниму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за транзиторне хидрат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6000" y="1844640"/>
            <a:ext cx="871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олико спортска активност траје краће – до 45 минута у континуитету, на пример једно полувреме кошаркашке или фудбалске утакмице – сматра се да правилно спроведена прехидратација обезбеђује адекватну хидрираност спортисте (под условом да је спољашња температура у опсегу комфор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значи да није потребно у том периоду додатно уносити вод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о је спољашња температура висока, или се из других разлога појача знојење (на пример, услед повећане влажности ваздуха или услед ношења непропусне одеће), потребно је унети додатну количину вод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за транзиторне хидрат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6000" y="1483920"/>
            <a:ext cx="871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ај режим се спроводи тако што спортиста уноси мање количине воде (по 150–250 ml) у размацима од по 15–20 минута, без обзира на то да ли осећа жеђ или 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жељи да постигне што бољи резултат, свесно, а врло често и несвесно, спортиста занемарује и потискује све импулсе из организма који могу представљати фактор ометања: бол из уморних и прегрејаних мишића, сувоћу уста, грчеве у дијафрагми услед недостатка кисеоника, па тако и жеђ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га транзиторна хидратација представља режим који спортиста једноставно мора усвојити као образац понашања у току тренинга или такмичења, који ће му сачувати здравље и повећати спортску способнос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за рехидрат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6000" y="1844640"/>
            <a:ext cx="871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ако човек поседује механизам регулације хидрираности преко осећаја жеђи, искуства говоре да није мудро у потпуности се ослонити на то, већ треба приступити програмској и планираној надокнади течности, односно такозваној транзиторној хидратацији – уносу воде током саме физичке активнос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за рехидрат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6000" y="1844640"/>
            <a:ext cx="871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јзад, након завршетка спортске активности, потребно је надокнадити сву изгубљену течност (фаза рехидратациј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се најбоље спроводи тако што се процени изгубљена количина из разлике у телесној маси пре и после такмиче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рука је да се на сваки изгубљени килограм телесне тежине унесе 1,5 литар течности током 2 сата након завршене физичке а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хидра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6000" y="1844640"/>
            <a:ext cx="871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хидратација се може спроводити с великим бројем напитака које користе спортисти и рекреативци за надокнаду изгубљене течности, а који се конзумирају орал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ортски нап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оћни сок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нергетска п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Сродна слика"/>
          <p:cNvPicPr/>
          <p:nvPr/>
        </p:nvPicPr>
        <p:blipFill>
          <a:blip r:embed="rId1"/>
          <a:stretch/>
        </p:blipFill>
        <p:spPr>
          <a:xfrm>
            <a:off x="6673680" y="220680"/>
            <a:ext cx="2297160" cy="153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Сродна слика"/>
          <p:cNvPicPr/>
          <p:nvPr/>
        </p:nvPicPr>
        <p:blipFill>
          <a:blip r:embed="rId2"/>
          <a:stretch/>
        </p:blipFill>
        <p:spPr>
          <a:xfrm>
            <a:off x="434880" y="5018040"/>
            <a:ext cx="2855880" cy="169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Резултат слика за energetska pića"/>
          <p:cNvPicPr/>
          <p:nvPr/>
        </p:nvPicPr>
        <p:blipFill>
          <a:blip r:embed="rId3"/>
          <a:stretch/>
        </p:blipFill>
        <p:spPr>
          <a:xfrm>
            <a:off x="6084720" y="5018040"/>
            <a:ext cx="288612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убитак те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0600" y="25653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ржавање енергије и добар баланс течности имају важну улогу током спортских актив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кос повећаном уносу течности током вежбања, многи спортисти могу да очекују да ће бити у најмању руку благо дехидрирани на крају тренин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убитак теч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0600" y="1915920"/>
            <a:ext cx="836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еално је да спортиста може потпуно обновити губитке течности након вежбања како би следећи тренинг могао почети с пуном количином теч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о је тешко у ситуацијама где ниво дехидратације који иде од умереног до високог није претходно саниран (на пример, недостатак течности износи 2–5% ТМ и више) и када је период између тренинга мањи од 6–8 са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убитак теч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0600" y="184464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ојење и обавезно губљење течности путем урина настављају се током фазе опоравка и зато спортисти морају да надокнаде више течности него што износи дефицит након вежбања, да би постигли њено обнављањ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пходно је да спортиста надокнади запремину течности која износи око 150% оне коју изгуби током вежбања да би постигао равнотежу течности у току првих 4 до 6 сати након тренин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убитак теч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0600" y="2060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а течности сама по себи не гарантује да ће циљеви рехидратације бити испуње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олико не постоји истовремена надокнада електролита који се губе путем знојења, а нарочито натријума, конзумирање велике количине течности би просто резултирало великим губит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докнада теч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6000" y="2060640"/>
            <a:ext cx="8712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датак натријума у течност доприноси одржавању равнотеже између волумена плазме и осмоларитета плазме, смањењу губитка течности и јачању баланса теч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з надокнаде натријума, или с његовом малом надокнађеном дозом, спортисти ће остати дехидрира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еална је комбинација натријума с угљеним хидратима у виду спортских пић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ртски напиц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6000" y="1844640"/>
            <a:ext cx="871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стима често скрећемо пажњу на то да кофеинска пића као што су чај и кафа, кока-кола и гуарана нису добра рехидрирајућа пића и да би требало да их избегавају у ситуацијама у којима се може развити дехидрираност, као што је период током и после вежбања или приликом путовања авио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6156360" y="45831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Сродна слика"/>
          <p:cNvPicPr/>
          <p:nvPr/>
        </p:nvPicPr>
        <p:blipFill>
          <a:blip r:embed="rId2"/>
          <a:stretch/>
        </p:blipFill>
        <p:spPr>
          <a:xfrm>
            <a:off x="6746760" y="160200"/>
            <a:ext cx="2291040" cy="1460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3"/>
          <a:stretch/>
        </p:blipFill>
        <p:spPr>
          <a:xfrm>
            <a:off x="171360" y="4583160"/>
            <a:ext cx="17780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ртски напиц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600" y="184464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ома пића може да подстакне жељу за уношењем веће количине теч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ије показују већи унос слатких пића него чисте воде током одмора након вежб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пература пића је такође веома важна: веома хладна пића се сматрају најпријатнијима, док се хладна пића конзумирају најбрже и у већим количин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Фазе хидрира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06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ма мишљењу већине аутора, одржавање правилне хидрираности спортиста може се поделити у три фаз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за прехидратације (пре спортске активност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за транзиторне хидратације (током саме спортске активности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за рехидратације (након завршене спортске активност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х</cp:lastModifiedBy>
  <dcterms:modified xsi:type="dcterms:W3CDTF">2018-10-14T12:34:08Z</dcterms:modified>
  <cp:revision>57</cp:revision>
  <dc:subject/>
  <dc:title>Демијелинизационе болести Мијастенија гравис</dc:title>
</cp:coreProperties>
</file>